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ct" ContentType="image/x-pict"/>
  <Override PartName="/ppt/media/image2.png" ContentType="image/png"/>
  <Override PartName="/ppt/media/image11.pct" ContentType="image/x-pict"/>
  <Override PartName="/ppt/media/image10.jpeg" ContentType="image/jpeg"/>
  <Override PartName="/ppt/media/image8.jpeg" ContentType="image/jpeg"/>
  <Override PartName="/ppt/media/image16.pct" ContentType="image/x-pict"/>
  <Override PartName="/ppt/media/image9.pct" ContentType="image/x-pict"/>
  <Override PartName="/ppt/media/image12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pct" ContentType="image/x-pict"/>
  <Override PartName="/ppt/media/image18.pct" ContentType="image/x-pict"/>
  <Override PartName="/ppt/media/image1.jpeg" ContentType="image/jpeg"/>
  <Override PartName="/ppt/media/image3.png" ContentType="image/png"/>
  <Override PartName="/ppt/media/image17.jpeg" ContentType="image/jpeg"/>
  <Override PartName="/ppt/media/image14.pct" ContentType="image/x-pict"/>
  <Override PartName="/ppt/media/image4.pct" ContentType="image/x-pict"/>
  <Override PartName="/ppt/media/image5.pct" ContentType="image/x-pict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80513"/>
  <p:custShowLst>
    <p:custShow name="religion" id="0">
      <p:sldLst>
        <p:sld r:id="rId8"/>
        <p:sld r:id="rId9"/>
        <p:sld r:id="rId10"/>
        <p:sld r:id="rId11"/>
        <p:sld r:id="rId12"/>
        <p:sld r:id="rId13"/>
      </p:sldLst>
    </p:custShow>
    <p:custShow name="Speech" id="1">
      <p:sldLst>
        <p:sld r:id="rId14"/>
        <p:sld r:id="rId15"/>
        <p:sld r:id="rId16"/>
      </p:sldLst>
    </p:custShow>
    <p:custShow name="press" id="2">
      <p:sldLst>
        <p:sld r:id="rId17"/>
        <p:sld r:id="rId18"/>
      </p:sldLst>
    </p:custShow>
    <p:custShow name="Assembly" id="3">
      <p:sldLst>
        <p:sld r:id="rId19"/>
        <p:sld r:id="rId20"/>
      </p:sldLst>
    </p:custShow>
    <p:custShow name="Petition" id="4">
      <p:sldLst>
        <p:sld r:id="rId21"/>
        <p:sld r:id="rId2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1DBC-8E00-4FFB-8E10-18E2C761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010E-498D-4B45-BF17-C3936AB9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B01-D4AF-431F-9E17-70D30045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100C-6AB4-41EC-ABAF-1AD28379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38F1-045B-4020-9939-C990DC45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7FED-D10A-4BAC-B3C1-8B2833DB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B749-188F-40EE-8346-96FCC89B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B263-8F35-4286-ADC4-A1CB0279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F3C6-1D3D-4C99-A516-A8FBADC4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712F-78D6-4312-9E05-DE5DF828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AD2E-D565-4EEF-8D8D-1D22DB02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688-2C28-4B1C-9AC6-A39440FF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5318-B1AC-45D2-9425-42A827D0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3A0A-ACDD-40FC-B2CD-3FAB9F49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A119-6DB4-4DCA-9827-152CA086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7E8D-A7F6-4157-AB94-F9E48620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F6A9-D5B9-4079-8BA0-921C2D80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14D8-E04D-4BDD-9D36-1CAE641E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B301-38B1-4805-AC81-27BAA0FD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756D-389E-4AD8-9950-446ADF66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C627-0507-4475-83BD-2949818F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ACB-A5D2-4B61-9B1D-60464C2E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23C6-E035-4020-A9E3-B6D266AB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A28-BFBD-40BF-A220-39F61664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F884-C47E-427F-ABBF-3ACA8B24DB0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20D9-67E7-4DB9-A6C5-2E5EB205C18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" Target="slide14.xml"/><Relationship Id="rId4" Type="http://schemas.openxmlformats.org/officeDocument/2006/relationships/slide" Target="slide16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67652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Bill of Righ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600" y="419112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The first 10 amendment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To the U. S. Constitution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ree Exercise—The person</a:t>
            </a:r>
            <a:br>
              <a:rPr sz="4400"/>
            </a:b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Ca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  </a:t>
            </a: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Canno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hoose whatever relig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ad a prayer in most examp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sk questions about religion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orship who ever you wa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Break the law and claim it is religious belief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aise children without educ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eprave children of basic need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reedom of speech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gress shall make no laws . . .  abridging the freedom of speech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47920" y="3124080"/>
            <a:ext cx="518148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ree speech– The individual can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ay any political belie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test (without getting out of control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ay things about someone that are tru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urn the fla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ay racist and hate sloga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ree speech means someone might say something you disagree wi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ree speech—limits on the pers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reaten to blow up airplanes, schools or the presid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xual harass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reate too much social cha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xtremely crude language in a public for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srespectful, vulgar language in school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ate crim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reedom of the pr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2101320"/>
            <a:ext cx="487692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gress shall make no law  . . . abridging . . . the freedom of the pres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943600" y="1447920"/>
            <a:ext cx="2841480" cy="49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reedom of the press-the press</a:t>
            </a:r>
            <a:br>
              <a:rPr sz="4400"/>
            </a:b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Can</a:t>
            </a: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Canno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int any political posi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ake fun of people, especially politicia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xpose wrongs by the governm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ay things you might not agree wit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ibel– intentionally injuring a person’s reputation by false fac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sclose defense-security secre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etail how to make a certain weap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reedom of Assembl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gress shall make no law . . . Abridging . . . The people to peaceably assemble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33720" y="3117960"/>
            <a:ext cx="518148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reedom of Assembly--Individual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Can</a:t>
            </a: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Canno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test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arade (with a permit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arade chanting hate sloga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ang members can congregate in public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test by throwing rocks and breaking window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ang out on private land against owners will—loiter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een curfe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etition the Governme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gress shall make no law . . . Abridging . . . the people. . . to petition the government for a redress of grievances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90920" y="3862440"/>
            <a:ext cx="388620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etition the governme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ay sue the government for wrong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cannot be punished for exposing wrongs by the govern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courts decide the wrong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3880" y="4354560"/>
            <a:ext cx="558972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determines what the Bill of Rights mean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Supreme Court makes rulings on the mean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Supreme Court balances the rights of the individual with the needs of socie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581280" y="4267080"/>
            <a:ext cx="2251080" cy="2211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14400" y="5486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ndividual?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5486400"/>
            <a:ext cx="23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ety?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4400" spc="-1" strike="noStrike" baseline="30000">
                <a:solidFill>
                  <a:srgbClr val="2a3d7a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Amendment—Right to bear ar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well-regulated militia, being necessary to the security of a free state, the right of the people to bear arms shall not be infringed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733920" y="3733920"/>
            <a:ext cx="38592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the debate with the right to bear arm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ow much can the government keep guns from criminals and youth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n order to keep guns away from criminals, does that limit the right of law abiding citizens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un debate continu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ousands of people die every year because of gun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ousands of crimes are prevented because of gu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2185920"/>
            <a:ext cx="4876920" cy="3237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" y="5562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hoes representing gun death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ird Amendme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Government cannot force you to shelter soldiers in your home without your consent in time of war or pea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800600" y="1425600"/>
            <a:ext cx="36082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447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ights of the Accused Amendments #4-8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mportant to preserve freedo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5800" y="2825640"/>
            <a:ext cx="74674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ahoma"/>
              </a:rPr>
              <a:t>Fourth Amendme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What does a policeman need in order to search your home?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A warrant given to him by a judge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Probable cause is also need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5812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40440" y="1981080"/>
            <a:ext cx="2727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ifth Amendme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cannot be tried for the same crime twice—called “Double Jeopardy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do not have to testify against your self. “I plead the fifth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hav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due process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of law before you are convict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government cannot take your land unless it pay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ixth Amendme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Right to speedy trial by impartial jury—meaning not favoring either sid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876920" y="2662200"/>
            <a:ext cx="426708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ixth Amendment continu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be told of charg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be provided a lawyer if you cannot afford o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487692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ighth Amendme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5880" y="2101320"/>
            <a:ext cx="27432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 excessive bai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 cruel and unusual punish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5791320" cy="3848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84360" y="590868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96040" y="613728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risoner kissing his Mom in pris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first amendment—5 rights mention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42674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reedom of Speec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reedom of Religion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reedom of the Pres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reedom of Assembl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ight to petition the govern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58128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ive Rights in the Amendme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1" action="ppaction://hlinksldjump"/>
              </a:rPr>
              <a:t>Freedom of Relig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2" action="ppaction://hlinksldjump"/>
              </a:rPr>
              <a:t>Freedom of speec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3" action="ppaction://hlinksldjump"/>
              </a:rPr>
              <a:t>Freedom of the pres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4" action="ppaction://hlinksldjump"/>
              </a:rPr>
              <a:t>Freedom of Assembl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5" action="ppaction://hlinksldjump"/>
              </a:rPr>
              <a:t>Petition the govern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reedom of Relig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gress shall make no law respecting an establishment of religion or prohibiting the free exercise there of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wo clause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Establishment claus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Free Exercise claus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stablishment and free exercise clause often conflict with each other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schools, the religion issue is most prevalent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f a student raises his hand and says “teacher, can we say an opening prayer before this test”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2880" y="25146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f the teacher says: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es”, It looks like establishment of relig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”, It is deigning a student free exercis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stablishment Clause—Government cannot promote relig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2276640"/>
            <a:ext cx="81536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stablishment clause-Government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Cans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Canno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each about religions in schoo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llow voluntary prayer in many examp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ransport students to a religious schoo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ad Bible for culture or literacy cont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t a state religion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overnment cannot order a pray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each religious doctrine in the schoo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ay seminary teach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each creationis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ree exercise of relig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6834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19:50:35Z</dcterms:created>
  <dc:creator>inst</dc:creator>
  <dc:description/>
  <dc:language>en-US</dc:language>
  <cp:lastModifiedBy>LPS Lincoln Public Schools</cp:lastModifiedBy>
  <dcterms:modified xsi:type="dcterms:W3CDTF">2008-02-11T18:03:19Z</dcterms:modified>
  <cp:revision>25</cp:revision>
  <dc:subject/>
  <dc:title>The Bill of Rights</dc:title>
</cp:coreProperties>
</file>